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ADD3-FAC6-4B15-8F4C-7619BE7A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311-A85D-4F8A-90ED-CF3F19EF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B02-4272-4757-9331-7B5947B3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23FE-9FA1-434F-8204-0F9A7453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EDE9-33B6-44FB-B858-3FC5D138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6AFB-C284-4A29-B6CA-7079BFBE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A308-83FF-4353-AB34-342AE22E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B166-B6E6-4878-BDF4-0A57B57F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D2EB-6241-4002-8043-DBD31065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099C-654F-4770-80E3-7AB25BF9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30E6-BF5A-4660-96C7-D91BE630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AE73-09DA-4C95-8AEC-F1E30CCF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3A08-6CB2-4F0E-BDF6-FECF8EEA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B453-7E33-4CB4-9923-9263ECEA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5C28-821A-4913-A74C-E007B9C8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58A5-1810-4BF7-8776-41694A8D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42E1-6420-4A8D-89C5-ACDCDF9F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F07-BC62-45A1-97AC-582D51F6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0D68-F481-40A0-8E2E-F8E81CB3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513A-78AE-4533-9728-0D27E7A2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2559-C61E-460F-B99A-3E5A8450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56F-2E4C-4996-A9A1-DA720342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B895-8D6C-4C68-934B-3861B1C7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D23-FAB3-4952-81B8-B470D110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005d8c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6C10-0394-4C87-8460-930CF41E274E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EDB5-AC4D-4DAA-AC1C-FBD37173281E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005d8c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guzman@ing.uchile.cl" TargetMode="External"/><Relationship Id="rId2" Type="http://schemas.openxmlformats.org/officeDocument/2006/relationships/hyperlink" Target="mailto:sebagusi@hotmail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area #1 IN34A Otoño 200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8f8f8"/>
                </a:solidFill>
                <a:latin typeface="Arial"/>
              </a:rPr>
              <a:t>Sebastián Guzmán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guzman@ing.uchile.c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ebagusi@hotmail.com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emanda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200 puertas simp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120 ventanas dob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Ventanas simples y puertas dobles tienen mercado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isponibilidad de recurso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Cantidad de madera 1000m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de sierra 5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hombre de barnizado 7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49320" y="1981080"/>
          <a:ext cx="7660800" cy="4114440"/>
        </p:xfrm>
        <a:graphic>
          <a:graphicData uri="http://schemas.openxmlformats.org/drawingml/2006/table">
            <a:tbl>
              <a:tblPr/>
              <a:tblGrid>
                <a:gridCol w="1301400"/>
                <a:gridCol w="1767600"/>
                <a:gridCol w="1964160"/>
                <a:gridCol w="2627640"/>
              </a:tblGrid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Madera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m</a:t>
                      </a:r>
                      <a:r>
                        <a:rPr b="1" lang="en-US" sz="12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rte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maq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Barnizad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hombre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4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3429000"/>
            <a:ext cx="7632720" cy="1584360"/>
          </a:xfrm>
          <a:prstGeom prst="rect">
            <a:avLst/>
          </a:prstGeom>
          <a:solidFill>
            <a:srgbClr val="00cc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71640" y="1989000"/>
          <a:ext cx="7661160" cy="3753000"/>
        </p:xfrm>
        <a:graphic>
          <a:graphicData uri="http://schemas.openxmlformats.org/drawingml/2006/table">
            <a:tbl>
              <a:tblPr/>
              <a:tblGrid>
                <a:gridCol w="1981080"/>
                <a:gridCol w="2691000"/>
                <a:gridCol w="2989080"/>
              </a:tblGrid>
              <a:tr h="72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ecio venta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sto unitari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510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Variables de Decisión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X(p): cantidad de producto p a produci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p 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Є</a:t>
            </a: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 {p. doble, p. simple, v. doble, v. simple}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Función Objetivo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Restriccione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Satisfacer demanda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Disponibilidad de recurso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0" y="3645000"/>
                <a:ext cx="388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cio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st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651640" y="5661000"/>
                <a:ext cx="3024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so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651640" y="4869000"/>
                <a:ext cx="17539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d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Hoja de Cálcu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4007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16:18:06Z</dcterms:created>
  <dc:creator> </dc:creator>
  <dc:description/>
  <dc:language>en-US</dc:language>
  <cp:lastModifiedBy>Familia</cp:lastModifiedBy>
  <dcterms:modified xsi:type="dcterms:W3CDTF">2005-03-31T00:56:55Z</dcterms:modified>
  <cp:revision>15</cp:revision>
  <dc:subject/>
  <dc:title>Tarea #1 In34a</dc:title>
</cp:coreProperties>
</file>